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C08F-E1BF-43F0-8A68-E18042594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A6C2-EF64-47A7-BAD6-49FD0E0BD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2779-9C5C-4C97-85D6-F5D0385B6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9F49-2EBB-4186-9019-0D7526294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DA0B2-ECAC-4F16-BF4B-3582D5371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2ACAC-E4B9-453B-97AE-2891E4AD4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0AD3E-0FDE-4823-89BF-41E28BB45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BAD09-6591-4EF2-9699-130B9C1E2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7BD80-CA0D-45AE-BA07-E769282FE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8929D-EF08-428D-A4C5-5EFE96672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230E8-BF12-48A8-ACEC-5F22FAB4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B17A-944C-4338-ADAB-A432E674C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2C926-DA62-4D1B-96AA-BC6AD793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29E8A-6656-4F8D-BAEF-BA6E715C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63254-B3BA-4DAA-9F70-D71566179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66599-420F-4422-B4F2-820D7867B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F0FEC-77D4-4E85-AF76-1AE47EEE9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2BBC-0E53-4517-9686-C809BDB91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4658-A3E1-4655-9E5F-D9839DA85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1C95-8641-4C20-9244-1FCB5F57A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786B-F8F3-43F4-8110-917122D01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3906-D010-4BD5-8EC0-CE473AA85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65B8-CCFB-4490-A3BB-D074BF3F4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E477-155E-4465-B0B5-6BBF6970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3EAEB-7117-4687-8D40-1182D3998F4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70B76-3FF4-450B-98A7-005C9FA01CF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Humour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Unit 2 Self and Other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Gender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ender Differences in Our Brai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fferences involve both brain’s structure and func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Tendencies (generalizations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re men than women are left-hand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re men than women favour the right ear when listening, women listen equally with both ea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re men than women excel at rotating 3-D objects in their hea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re women than men prove better at reading the emotions of people in photograph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ender Differences in Our Brai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WHY?   Theorie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ight hemisphere is dominant in male brai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Corpus callosum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n larger in female brains (thus allowing for better communication between the right and left hemispheres of the female brai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rpus callosum up to 23% wider in females (Allen and Gorski, 1992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emales use both sides of brain when spelling while males use mostly the left side when spelling (Naylor, 1988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ender Differences in Our Brai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066680" y="2590920"/>
            <a:ext cx="3009960" cy="3276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343400" y="2438280"/>
            <a:ext cx="4287960" cy="37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on-Physical Gender Differenc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Conversation styles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 (Deborah Tanner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omen –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Consensus model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– allowing everyone to have input in the decision making process (to not appear bossy or arrogant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omen do not call attention to their accomplishments to the same extent that men do (to not appear like they are bragg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se of pronouns:  women use “we” or “our” whereas men use ”I” and “my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on-Physical Gender Differenc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9625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Sense of Humor M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Slapstick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 involving exaggerated physical violence and activities which exceed the boundaries of common sense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Gallows humo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 type of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umor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 that arises from stressful, traumatic, or life-threatening situations (similar to black comedy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WARNING:</a:t>
            </a:r>
            <a:br>
              <a:rPr sz="2000"/>
            </a:b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Watch your dog!</a:t>
            </a:r>
            <a:br>
              <a:rPr sz="2000"/>
            </a:b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Police all over the country are advising all dog owners to "Watch your Dog". Dogs are being picked off one at a time. They are falling in great numbers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562720" y="4191120"/>
            <a:ext cx="251460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on-Physical Gender Differenc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Sense of Humor Wom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Irony:  an expression of something completely different  from the literal meaning.  Usually, someone says the opposite of what they mean and the listener believes the opposite of what they said.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4761000" y="2362320"/>
            <a:ext cx="3770280" cy="3724200"/>
            <a:chOff x="4761000" y="2362320"/>
            <a:chExt cx="3770280" cy="3724200"/>
          </a:xfrm>
        </p:grpSpPr>
        <p:pic>
          <p:nvPicPr>
            <p:cNvPr id="141" name="" descr=""/>
            <p:cNvPicPr/>
            <p:nvPr/>
          </p:nvPicPr>
          <p:blipFill>
            <a:blip r:embed="rId1"/>
            <a:stretch/>
          </p:blipFill>
          <p:spPr>
            <a:xfrm>
              <a:off x="4761000" y="2362320"/>
              <a:ext cx="3770280" cy="372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 txBox="1"/>
            <p:nvPr/>
          </p:nvSpPr>
          <p:spPr>
            <a:xfrm>
              <a:off x="4761000" y="2362320"/>
              <a:ext cx="3770280" cy="372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499"/>
                </a:spcBef>
                <a:buClr>
                  <a:srgbClr val="003366"/>
                </a:buClr>
                <a:buSzPct val="7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hildhood poe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33530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at are little boys made of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rogs and snail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d puppy dogs’ tails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at’s what little boys are made o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105520" y="2361960"/>
            <a:ext cx="34257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ff"/>
                </a:solidFill>
                <a:latin typeface="Arial"/>
              </a:rPr>
              <a:t>What are little girls made of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ff"/>
                </a:solidFill>
                <a:latin typeface="Arial"/>
              </a:rPr>
              <a:t>Sugar and spi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ff"/>
                </a:solidFill>
                <a:latin typeface="Arial"/>
              </a:rPr>
              <a:t>And all that’s nice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ff"/>
                </a:solidFill>
                <a:latin typeface="Arial"/>
              </a:rPr>
              <a:t>That’s what little girls are made o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ender focus ques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ow are gender differences distinct from gender role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at difficulties do both men and women face moving into non-traditional gender area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y is it important to keep challenging our beliefs about appropriate gender role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ender Attitud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Gender differences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the physical differences that exist between males and femal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body f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muscle density (strength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 reproductive orga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 the past – resulted in us being put into rigid categories –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gender rol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799160" y="304920"/>
            <a:ext cx="434484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ender Ro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8487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Gender Role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:  the roles that society expects people to play based on their gend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600200" y="3352680"/>
          <a:ext cx="7010280" cy="3102120"/>
        </p:xfrm>
        <a:graphic>
          <a:graphicData uri="http://schemas.openxmlformats.org/drawingml/2006/table">
            <a:tbl>
              <a:tblPr/>
              <a:tblGrid>
                <a:gridCol w="3505320"/>
                <a:gridCol w="35049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ale Gender Roles and Expectatio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emale Gender Role and Expectation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24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003366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ggressive behaviour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3366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ough and independen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3366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ot to express their feeling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Jobs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:  Involving physical strength (police, firefighter), Doctors, lawyers (power).  Careers would continue after the birth of children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003366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assive / submissive behaviour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3366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eminine and dependan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3366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motional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Jobs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: Involving nurturing (nurses, not doctors, teachers).  Careers ended with the birth of childre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>
            <a:off x="7089480" y="304812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Historically!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ender Roles and Socializ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029200" y="1905120"/>
            <a:ext cx="3914640" cy="4724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62120" y="2362320"/>
            <a:ext cx="4343400" cy="37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ender Socializ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Gender socializatio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 the different ways in which boys and girls are socialized, or learn to belong to socie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arly Impact of Gender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ult voice pitch and word choice changes when relating to babies of perceived different gend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ender Socialization continue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3770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igh pitch voi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ocabulary choice:  pretty, daint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ower pitch voi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ocabulary choice: Strong, big, health, strapp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029200" y="281952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752480" y="2362320"/>
            <a:ext cx="1560600" cy="23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Gender Roles and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ocializat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952880" y="2666880"/>
            <a:ext cx="3705480" cy="38102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715000" y="163440"/>
            <a:ext cx="2590920" cy="24922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914400" y="2362320"/>
            <a:ext cx="3882960" cy="2646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1219320" y="4648320"/>
            <a:ext cx="2057400" cy="20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4T14:53:16Z</dcterms:created>
  <dc:creator>Administrator</dc:creator>
  <dc:description/>
  <dc:language>en-US</dc:language>
  <cp:lastModifiedBy>Customer</cp:lastModifiedBy>
  <dcterms:modified xsi:type="dcterms:W3CDTF">2010-04-07T12:39:00Z</dcterms:modified>
  <cp:revision>5</cp:revision>
  <dc:subject/>
  <dc:title>Unit 2 Self and Others</dc:title>
</cp:coreProperties>
</file>